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5BF-2FE7-4B55-A4FA-B4A9448D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FC1-88B0-41A1-A8BA-06BD1479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BDC-3895-4B1D-ACAB-F9774000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FFA-E5A1-47AE-A219-97D26D51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FDC-5384-49EF-A525-1A9AC5B9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4F7-2164-4482-A2D7-D0DA2306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036-B03D-403D-B6D0-FDD99353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122-9D60-4E1A-807D-25933A89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061-0AE4-4F88-B642-4A22A01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218-69A5-4D4E-94DD-C592624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C50-2241-4C01-8FC6-7007698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C1F-E21D-430A-AC4A-B9AE556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369C-7A46-4E59-B458-19C70AB031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цедуры аттестации педагогических работников государственных и муниципальных образовательных учреждений Оренбургской области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как составная часть пакета документов аттестуемого представляется в Аттестационную комиссию, первыми с ним знакомятся эксперты. Они обрабатывают и подсчитывают результаты самооценки. Затем прилагают полученные результаты к листу самооценк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экспертной оценки и самооценка педагогической деятельности аттестуемого являются основными моментами в определении уровня квалификации при установлении соответствия требованиям квалификационных категор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делают вывод, насколько аргументировано заявление педагогического работника с просьбой об аттест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вправе включить в экспертное заключение рекомендаци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ое заключение, содержащее вывод экспертной группы, подписывается руководителем и членами экспертной группы, заверяется подписью руководителя образовательного учреждения, печатью образовательного учреждения, передается в УО методисту курирующему аттест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b050"/>
              </a:solidFill>
              <a:latin typeface="Monotype Corsiv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ю деятельности экспертной группы является проведение всестороннего анализа результатов профессиональной деятельности педагогического работника и подготовка экспертного заключ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принципами работы экспертной группы являются объективность, коллегиальность, открытость, коррект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боты экспер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и анализируют 1-2 урока, занятия или мероприятия, проводимых педагогическим работнико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 портфолио, следят за соответствием результатов деятельности аттестуемого требованиям, названным в Порядке;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зучают рабочие программы, классные журналы, результаты уровня контроля достижений обучающихся (воспитанников), методические и дидактические материалы, используемые и самостоятельно подготовленные аттестуемым и т.д.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водят беседы с руководителем образовательного учреждения, его заместителями, руководителем методического объединения, коллегами аттестуемого, со всеми, кто может предоставить аргументированную информацию об уровне развития компетенций аттестуем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эксперты обращают внимание на правовое знание, являющееся значимым параметром оценки соответствующих компетенц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аттестуемый заполняет самостоятельно, но, если у него возникли затруднения или вопросы, он вправе обратиться за помощью к экспертам, членам подкомиссии или Аттестационной комиссии, где ему обязаны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urukina</cp:lastModifiedBy>
  <dcterms:modified xsi:type="dcterms:W3CDTF">2015-11-05T05:21:30Z</dcterms:modified>
  <cp:revision>29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